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65559-DFD2-47D9-89F1-A26AE1F37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46F48-460E-4A0B-A262-699A97629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5AA1C-334B-46DA-BAD4-98E79490E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6380D-2F73-48BF-AEC7-084319DA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EF3B4-B21A-4958-AEF3-F0086A427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22347-213E-46A3-BC11-9AA13A137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EB076-4D76-4C47-925D-BF9276ABB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C44B2-BB82-424F-A3E0-C43BD74C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02B85-00CD-4485-A3F8-793EEA559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3FC6E-3B20-4320-A89D-C32C79BD5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E956-A447-46D0-807F-5EE71DFAF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707C-4AAA-48D5-AE9A-85D04DC47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FA8E-C4C1-4301-BC00-76DCBC0B76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24000" y="3357720"/>
            <a:ext cx="487692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1:02:26Z</dcterms:modified>
  <cp:revision>47</cp:revision>
  <dc:subject/>
  <dc:title>SALARIUL</dc:title>
</cp:coreProperties>
</file>